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115560"/>
            <a:ext cx="6275520" cy="5366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ftr" idx="1"/>
          </p:nvPr>
        </p:nvSpPr>
        <p:spPr>
          <a:xfrm>
            <a:off x="3123720" y="6337080"/>
            <a:ext cx="2816280" cy="331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3" name=""/>
          <p:cNvSpPr/>
          <p:nvPr/>
        </p:nvSpPr>
        <p:spPr>
          <a:xfrm>
            <a:off x="0" y="1341360"/>
            <a:ext cx="914400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429240" y="633744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 name=""/>
          <p:cNvSpPr/>
          <p:nvPr/>
        </p:nvSpPr>
        <p:spPr>
          <a:xfrm>
            <a:off x="236520" y="633744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900" spc="-1" strike="noStrike">
                <a:solidFill>
                  <a:srgbClr val="000000"/>
                </a:solidFill>
                <a:latin typeface="Arial"/>
              </a:rPr>
              <a:t>6</a:t>
            </a:r>
            <a:r>
              <a:rPr b="0" lang="en-IE" sz="900" spc="-1" strike="noStrike" baseline="30000">
                <a:solidFill>
                  <a:srgbClr val="000000"/>
                </a:solidFill>
                <a:latin typeface="Arial"/>
              </a:rPr>
              <a:t>th</a:t>
            </a:r>
            <a:r>
              <a:rPr b="0" lang="en-IE" sz="900" spc="-1" strike="noStrike">
                <a:solidFill>
                  <a:srgbClr val="000000"/>
                </a:solidFill>
                <a:latin typeface="Arial"/>
              </a:rPr>
              <a:t> February 2009</a:t>
            </a:r>
            <a:endParaRPr b="0" lang="en-US" sz="900" spc="-1" strike="noStrike">
              <a:solidFill>
                <a:srgbClr val="000000"/>
              </a:solidFill>
              <a:latin typeface="Times New Roman"/>
            </a:endParaRPr>
          </a:p>
        </p:txBody>
      </p:sp>
      <p:pic>
        <p:nvPicPr>
          <p:cNvPr id="6" name="" descr=""/>
          <p:cNvPicPr/>
          <p:nvPr/>
        </p:nvPicPr>
        <p:blipFill>
          <a:blip r:embed="rId2"/>
          <a:stretch/>
        </p:blipFill>
        <p:spPr>
          <a:xfrm>
            <a:off x="7093080" y="260280"/>
            <a:ext cx="1692000" cy="668520"/>
          </a:xfrm>
          <a:prstGeom prst="rect">
            <a:avLst/>
          </a:prstGeom>
          <a:ln w="0">
            <a:noFill/>
          </a:ln>
        </p:spPr>
      </p:pic>
      <p:sp>
        <p:nvSpPr>
          <p:cNvPr id="7" name=""/>
          <p:cNvSpPr/>
          <p:nvPr/>
        </p:nvSpPr>
        <p:spPr>
          <a:xfrm>
            <a:off x="6804000" y="6381720"/>
            <a:ext cx="17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	</a:t>
            </a:r>
            <a:fld id="{D68F5218-EF1F-4837-B8CE-98755BAD3B80}" type="slidenum">
              <a:rPr b="0" lang="en-I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 name=""/>
          <p:cNvSpPr/>
          <p:nvPr/>
        </p:nvSpPr>
        <p:spPr>
          <a:xfrm>
            <a:off x="6804000" y="6673680"/>
            <a:ext cx="1366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Quality"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333399"/>
                </a:solidFill>
                <a:latin typeface="Arial"/>
              </a:rPr>
              <a:t>How can/should quality assurance feature in the design of discipline-specific learning outcomes?</a:t>
            </a:r>
            <a:endParaRPr b="1" lang="en-US" sz="3200" spc="-1" strike="noStrike">
              <a:solidFill>
                <a:srgbClr val="333399"/>
              </a:solidFill>
              <a:latin typeface="Arial"/>
            </a:endParaRPr>
          </a:p>
        </p:txBody>
      </p:sp>
      <p:sp>
        <p:nvSpPr>
          <p:cNvPr id="46" name="PlaceHolder 2"/>
          <p:cNvSpPr>
            <a:spLocks noGrp="1"/>
          </p:cNvSpPr>
          <p:nvPr>
            <p:ph type="subTitle"/>
          </p:nvPr>
        </p:nvSpPr>
        <p:spPr>
          <a:xfrm>
            <a:off x="1371240" y="3885840"/>
            <a:ext cx="6513480" cy="2135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Dr. Norma Ryan</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Director, Quality Promotion Unit</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University College Cork</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rish Bologna Exper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realisation of the EHEA depends crucially on a commitment at all levels of an institution to ensuring that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s programmes have clear and explicit intended outcomes;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ff are ready, willing and able to provide teaching and learner suppor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at there is full, timely and tangible recognition of the contribution to its work by staff who demonstrate excellence, expertise and dedication.</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23640" y="404280"/>
            <a:ext cx="777708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2.  Approval, Monitoring and Periodic Review of Programmes and Awards</a:t>
            </a:r>
            <a:endParaRPr b="1" lang="en-US" sz="3200" spc="-1" strike="noStrike">
              <a:solidFill>
                <a:srgbClr val="333399"/>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ndard</a:t>
            </a:r>
            <a:endParaRPr b="1"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itutions should have formal mechanisms for the approval, periodic review and monitoring of their programmes and awards</a:t>
            </a: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404640"/>
            <a:ext cx="8424720" cy="91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Guidelines</a:t>
            </a:r>
            <a:endParaRPr b="1" lang="en-US" sz="3200" spc="-1" strike="noStrike">
              <a:solidFill>
                <a:srgbClr val="333399"/>
              </a:solidFill>
              <a:latin typeface="Arial"/>
            </a:endParaRPr>
          </a:p>
        </p:txBody>
      </p:sp>
      <p:sp>
        <p:nvSpPr>
          <p:cNvPr id="68" name="PlaceHolder 2"/>
          <p:cNvSpPr>
            <a:spLocks noGrp="1"/>
          </p:cNvSpPr>
          <p:nvPr>
            <p:ph/>
          </p:nvPr>
        </p:nvSpPr>
        <p:spPr>
          <a:xfrm>
            <a:off x="0" y="1628280"/>
            <a:ext cx="914400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 of programmes and awards expected to includ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ublication of explicit intended learning outcom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ful attention to curriculum and programme design and conten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needs of different modes of deliver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ailability of appropriate learning resourc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l programme approval procedures by a body other than that teaching;</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nitoring of the progress and achievements of students;</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gular periodic reviews of programmes (including external panel members);</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gular feedback from employers, labour market representatives and other relevant organisations;</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rticipation of students in quality assurance activitie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3. Assessment of students</a:t>
            </a:r>
            <a:endParaRPr b="1" lang="en-US" sz="3200" spc="-1" strike="noStrike">
              <a:solidFill>
                <a:srgbClr val="3333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Arial"/>
              </a:rPr>
              <a:t>Standard</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should be assessed using published criteria, regulations and procedures which are applied consistently</a:t>
            </a:r>
            <a:r>
              <a:rPr b="0" lang="en-US" sz="3200" spc="-1" strike="noStrike">
                <a:solidFill>
                  <a:srgbClr val="000000"/>
                </a:solidFill>
                <a:latin typeface="Arial"/>
              </a:rPr>
              <a:t>.</a:t>
            </a: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85480"/>
            <a:ext cx="8496360" cy="98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ssessment of students </a:t>
            </a:r>
            <a:br>
              <a:rPr sz="2800"/>
            </a:br>
            <a:r>
              <a:rPr b="1" lang="en-US" sz="2800" spc="-1" strike="noStrike">
                <a:solidFill>
                  <a:srgbClr val="333399"/>
                </a:solidFill>
                <a:latin typeface="Arial"/>
              </a:rPr>
              <a:t>Guidelines</a:t>
            </a:r>
            <a:endParaRPr b="1" lang="en-US" sz="2800" spc="-1" strike="noStrike">
              <a:solidFill>
                <a:srgbClr val="333399"/>
              </a:solidFill>
              <a:latin typeface="Arial"/>
            </a:endParaRPr>
          </a:p>
        </p:txBody>
      </p:sp>
      <p:sp>
        <p:nvSpPr>
          <p:cNvPr id="74" name="PlaceHolder 2"/>
          <p:cNvSpPr>
            <a:spLocks noGrp="1"/>
          </p:cNvSpPr>
          <p:nvPr>
            <p:ph/>
          </p:nvPr>
        </p:nvSpPr>
        <p:spPr>
          <a:xfrm>
            <a:off x="250920" y="1714320"/>
            <a:ext cx="8678880" cy="4593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Student assessment procedures are expected to:</a:t>
            </a:r>
            <a:endParaRPr b="1" lang="en-US" sz="2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designed to measure the achievement of the intended learning outcomes;</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appropriate for their purpose, whether diagnostic, formative or summative;</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clear and published criteria for marking;</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undertaken by people who understand the role of assessment;</a:t>
            </a:r>
            <a:endParaRPr b="1"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possible, not rely on the judgements of single examiners;</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ke account of all the possible consequences of examination regulations;</a:t>
            </a:r>
            <a:endParaRPr b="1"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ear regulations covering student absence, illness / other mitigating circumstances;</a:t>
            </a:r>
            <a:endParaRPr b="1"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ssessments conducted securely in accordance with stated procedures;</a:t>
            </a:r>
            <a:endParaRPr b="1"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ject to administrative verification checks to ensure accuracy</a:t>
            </a:r>
            <a:endParaRPr b="1"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udents should be clearly informed about assessment strategy, what  assessment methods they will be subject to,  what is expected of them, and the criteria applied to the assessment.</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Arial"/>
              </a:rPr>
              <a:t>4.  </a:t>
            </a:r>
            <a:r>
              <a:rPr b="1" lang="en-GB" sz="3200" spc="-1" strike="noStrike">
                <a:solidFill>
                  <a:srgbClr val="333399"/>
                </a:solidFill>
                <a:latin typeface="Arial"/>
              </a:rPr>
              <a:t>Quality assurance of teaching staff</a:t>
            </a:r>
            <a:endParaRPr b="1" lang="en-US" sz="3200" spc="-1" strike="noStrike">
              <a:solidFill>
                <a:srgbClr val="333399"/>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Arial"/>
              </a:rPr>
              <a:t>Standard</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itutions should have ways of satisfying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mselves that staff involved with the teaching of students are qualified and competent to do so.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should be available to those undertaking </a:t>
            </a:r>
            <a:endParaRPr b="1"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 reviews, and commented upon in reports</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285480"/>
            <a:ext cx="8640720" cy="91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3399"/>
                </a:solidFill>
                <a:latin typeface="Arial"/>
              </a:rPr>
              <a:t>4.  </a:t>
            </a:r>
            <a:r>
              <a:rPr b="1" lang="en-GB" sz="2800" spc="-1" strike="noStrike">
                <a:solidFill>
                  <a:srgbClr val="333399"/>
                </a:solidFill>
                <a:latin typeface="Arial"/>
              </a:rPr>
              <a:t>Quality assurance of teaching staff</a:t>
            </a:r>
            <a:endParaRPr b="1" lang="en-US" sz="2800" spc="-1" strike="noStrike">
              <a:solidFill>
                <a:srgbClr val="333399"/>
              </a:solidFill>
              <a:latin typeface="Arial"/>
            </a:endParaRPr>
          </a:p>
        </p:txBody>
      </p:sp>
      <p:sp>
        <p:nvSpPr>
          <p:cNvPr id="80" name="PlaceHolder 2"/>
          <p:cNvSpPr>
            <a:spLocks noGrp="1"/>
          </p:cNvSpPr>
          <p:nvPr>
            <p:ph/>
          </p:nvPr>
        </p:nvSpPr>
        <p:spPr>
          <a:xfrm>
            <a:off x="323640" y="1557360"/>
            <a:ext cx="8605800" cy="4680000"/>
          </a:xfrm>
          <a:prstGeom prst="rect">
            <a:avLst/>
          </a:prstGeom>
          <a:noFill/>
          <a:ln w="0">
            <a:noFill/>
          </a:ln>
        </p:spPr>
        <p:txBody>
          <a:bodyPr anchor="t">
            <a:normAutofit/>
          </a:bodyPr>
          <a:p>
            <a:pPr marL="343080" indent="-343080">
              <a:lnSpc>
                <a:spcPct val="100000"/>
              </a:lnSpc>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NewRomanPSMT"/>
              </a:rPr>
              <a:t>Guidelines</a:t>
            </a:r>
            <a:endParaRPr b="1" lang="en-US" sz="2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have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 knowledge and understanding of subjects taugh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cessary skills and experience to transmit their knowledge and understanding effectively in a range of teaching contexts,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to feedback on their own performance.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titutions should ensure</a:t>
            </a:r>
            <a:r>
              <a:rPr b="1" lang="en-GB" sz="3200" spc="-1" strike="noStrike">
                <a:solidFill>
                  <a:srgbClr val="000000"/>
                </a:solidFill>
                <a:latin typeface="Arial"/>
              </a:rPr>
              <a:t> </a:t>
            </a:r>
            <a:endParaRPr b="1"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ruitment procedures ensure minimum necessary level of competence.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aching staff given opportunities to develop their teaching capacity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aching staff encouraged to value their skills.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or teachers given opportunities to improve skills to acceptable leve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ns to remove them from teaching if demonstrably ineffective.</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Arial"/>
              </a:rPr>
              <a:t>Quality Assurance</a:t>
            </a:r>
            <a:endParaRPr b="1" lang="en-US" sz="4000" spc="-1" strike="noStrike">
              <a:solidFill>
                <a:srgbClr val="333399"/>
              </a:solidFill>
              <a:latin typeface="Arial"/>
            </a:endParaRPr>
          </a:p>
        </p:txBody>
      </p:sp>
      <p:sp>
        <p:nvSpPr>
          <p:cNvPr id="48" name="PlaceHolder 2"/>
          <p:cNvSpPr>
            <a:spLocks noGrp="1"/>
          </p:cNvSpPr>
          <p:nvPr>
            <p:ph/>
          </p:nvPr>
        </p:nvSpPr>
        <p:spPr>
          <a:xfrm>
            <a:off x="611280" y="1599840"/>
            <a:ext cx="8075520" cy="434988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ality assurance (QA) refers to planned and systematic production processes that provide confidence in a product's suitability for its intended purpose. It is a set of activities intended to ensure that products (goods and/or services) satisfy customer requirements in a systematic, reliable fashion. QA cannot absolutely guarantee the production of </a:t>
            </a:r>
            <a:r>
              <a:rPr b="1" i="1" lang="en-GB" sz="2800" spc="-1" strike="noStrike">
                <a:solidFill>
                  <a:srgbClr val="000000"/>
                </a:solidFill>
                <a:latin typeface="Arial"/>
              </a:rPr>
              <a:t>quality</a:t>
            </a:r>
            <a:r>
              <a:rPr b="1" lang="en-GB" sz="2800" spc="-1" strike="noStrike">
                <a:solidFill>
                  <a:srgbClr val="000000"/>
                </a:solidFill>
                <a:latin typeface="Arial"/>
              </a:rPr>
              <a:t> products, unfortunately, but makes this more likely.</a:t>
            </a:r>
            <a:endParaRPr b="1" lang="en-US" sz="2800" spc="-1" strike="noStrike">
              <a:solidFill>
                <a:srgbClr val="000000"/>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http://en.wikipedia.org/wiki/Quality_assurance</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5.  Learning Resources and Student Support</a:t>
            </a:r>
            <a:endParaRPr b="1" lang="en-US" sz="3200" spc="-1" strike="noStrike">
              <a:solidFill>
                <a:srgbClr val="333399"/>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Standard</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NewRomanPSMT"/>
              </a:rPr>
              <a:t>Institutions should ensure that the resources </a:t>
            </a:r>
            <a:endParaRPr b="1" lang="en-US" sz="2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NewRomanPSMT"/>
              </a:rPr>
              <a:t>available for the support of student learning are adequate and appropriate for each programme offered</a:t>
            </a:r>
            <a:r>
              <a:rPr b="1" lang="en-US" sz="1800" spc="-1" strike="noStrike">
                <a:solidFill>
                  <a:srgbClr val="000000"/>
                </a:solidFill>
                <a:latin typeface="TimesNewRomanPSMT"/>
              </a:rPr>
              <a:t>.</a:t>
            </a:r>
            <a:endParaRPr b="1"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285840"/>
            <a:ext cx="8569440" cy="105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5. Learning Resources and Student </a:t>
            </a:r>
            <a:br>
              <a:rPr sz="3200"/>
            </a:br>
            <a:r>
              <a:rPr b="1" lang="en-US" sz="3200" spc="-1" strike="noStrike">
                <a:solidFill>
                  <a:srgbClr val="333399"/>
                </a:solidFill>
                <a:latin typeface="Arial"/>
              </a:rPr>
              <a:t>Support</a:t>
            </a:r>
            <a:endParaRPr b="1" lang="en-US" sz="3200" spc="-1" strike="noStrike">
              <a:solidFill>
                <a:srgbClr val="333399"/>
              </a:solidFill>
              <a:latin typeface="Arial"/>
            </a:endParaRPr>
          </a:p>
        </p:txBody>
      </p:sp>
      <p:sp>
        <p:nvSpPr>
          <p:cNvPr id="86" name="PlaceHolder 2"/>
          <p:cNvSpPr>
            <a:spLocks noGrp="1"/>
          </p:cNvSpPr>
          <p:nvPr>
            <p:ph/>
          </p:nvPr>
        </p:nvSpPr>
        <p:spPr>
          <a:xfrm>
            <a:off x="178920" y="1915920"/>
            <a:ext cx="8750520" cy="432108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ff"/>
                </a:solidFill>
                <a:latin typeface="Arial"/>
              </a:rPr>
              <a:t>Guidelines</a:t>
            </a:r>
            <a:r>
              <a:rPr b="1" lang="en-GB" sz="1000" spc="-1" strike="noStrike">
                <a:solidFill>
                  <a:srgbClr val="000000"/>
                </a:solidFill>
                <a:latin typeface="TimesNewRomanPSMT"/>
              </a:rPr>
              <a:t> </a:t>
            </a:r>
            <a:endParaRPr b="1" lang="en-US" sz="10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NewRomanPSMT"/>
              </a:rPr>
              <a:t>Additional to teachers, students rely on  other resources to assist learning. physical resources such as libraries or computing facilities to human support in the form of tutors, counsellors, and other advisers. </a:t>
            </a:r>
            <a:endParaRPr b="1"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NewRomanPSMT"/>
              </a:rPr>
              <a:t>Learning resources and other support mechanisms should be </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TimesNewRomanPS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NewRomanPSMT"/>
              </a:rPr>
              <a:t>readily accessible to students, </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TimesNewRomanPS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NewRomanPSMT"/>
              </a:rPr>
              <a:t>designed with their needs in mind and </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TimesNewRomanPS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NewRomanPSMT"/>
              </a:rPr>
              <a:t>responsive to feedback from users.</a:t>
            </a:r>
            <a:endParaRPr b="1" lang="en-US" sz="20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NewRomanPSMT"/>
              </a:rPr>
              <a:t>Institutions should routinely monitor, review and improve the effectiveness of the support services available to their students.</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6. Information systems</a:t>
            </a:r>
            <a:endParaRPr b="1" lang="en-US" sz="3200" spc="-1" strike="noStrike">
              <a:solidFill>
                <a:srgbClr val="333399"/>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Standard</a:t>
            </a:r>
            <a:endParaRPr b="1"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itutions should ensure that they collec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yse and use relevant information fo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ffective management of their programmes </a:t>
            </a: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study and other activities</a:t>
            </a:r>
            <a:r>
              <a:rPr b="1" lang="en-US" sz="3200" spc="-1" strike="noStrike">
                <a:solidFill>
                  <a:srgbClr val="000000"/>
                </a:solidFill>
                <a:latin typeface="Arial"/>
              </a:rPr>
              <a:t>.</a:t>
            </a: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285480"/>
            <a:ext cx="871380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6. Information systems </a:t>
            </a:r>
            <a:br>
              <a:rPr sz="3200"/>
            </a:br>
            <a:r>
              <a:rPr b="1" lang="en-US" sz="3200" spc="-1" strike="noStrike">
                <a:solidFill>
                  <a:srgbClr val="333399"/>
                </a:solidFill>
                <a:latin typeface="Arial"/>
              </a:rPr>
              <a:t>Guidelines</a:t>
            </a:r>
            <a:endParaRPr b="1" lang="en-US" sz="3200" spc="-1" strike="noStrike">
              <a:solidFill>
                <a:srgbClr val="333399"/>
              </a:solidFill>
              <a:latin typeface="Arial"/>
            </a:endParaRPr>
          </a:p>
        </p:txBody>
      </p:sp>
      <p:sp>
        <p:nvSpPr>
          <p:cNvPr id="90" name="PlaceHolder 2"/>
          <p:cNvSpPr>
            <a:spLocks noGrp="1"/>
          </p:cNvSpPr>
          <p:nvPr>
            <p:ph/>
          </p:nvPr>
        </p:nvSpPr>
        <p:spPr>
          <a:xfrm>
            <a:off x="394920" y="1928880"/>
            <a:ext cx="8534520" cy="4092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that institutions have the means of collecting and analysing information about their own activities to know what is working well, what needs attention, or the results of innovatory practic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quality-related information systems required by individual institutions will depend to some extent on local circumstances, but it is at least expected to cover:</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progression and success rates;</a:t>
            </a:r>
            <a:endParaRPr b="1"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ability of graduates;</a:t>
            </a:r>
            <a:endParaRPr b="1"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satisfaction with their programmes;</a:t>
            </a:r>
            <a:endParaRPr b="1"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ness of teachers;</a:t>
            </a:r>
            <a:endParaRPr b="1"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le of the student population;</a:t>
            </a:r>
            <a:endParaRPr b="1"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resources available and their costs;</a:t>
            </a:r>
            <a:endParaRPr b="1"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stitution’s own key performance indicators.</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285840"/>
            <a:ext cx="8496360" cy="13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6. Information systems - Guidelines</a:t>
            </a:r>
            <a:endParaRPr b="1" lang="en-US" sz="3200" spc="-1" strike="noStrike">
              <a:solidFill>
                <a:srgbClr val="333399"/>
              </a:solidFill>
              <a:latin typeface="Arial"/>
            </a:endParaRPr>
          </a:p>
        </p:txBody>
      </p:sp>
      <p:sp>
        <p:nvSpPr>
          <p:cNvPr id="94" name="PlaceHolder 2"/>
          <p:cNvSpPr>
            <a:spLocks noGrp="1"/>
          </p:cNvSpPr>
          <p:nvPr>
            <p:ph/>
          </p:nvPr>
        </p:nvSpPr>
        <p:spPr>
          <a:xfrm>
            <a:off x="214200" y="1928880"/>
            <a:ext cx="87156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re is also value in institutions comparing themselves with other similar organisations within the EHEA and beyond. This allows them to extend the range of their self-knowledge and to access possible ways of improving their own performanc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7. Public information</a:t>
            </a:r>
            <a:endParaRPr b="1" lang="en-US" sz="3200" spc="-1" strike="noStrike">
              <a:solidFill>
                <a:srgbClr val="333399"/>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Arial"/>
              </a:rPr>
              <a:t>Standard</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itutions should regularly publish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 to date, impartial and objective informatio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th quantitative and qualitativ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out the programmes and awards they ar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fering.</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0"/>
            <a:ext cx="8570880" cy="13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7. Public information – Guidelines</a:t>
            </a:r>
            <a:endParaRPr b="1" lang="en-US" sz="3200" spc="-1" strike="noStrike">
              <a:solidFill>
                <a:srgbClr val="333399"/>
              </a:solidFill>
              <a:latin typeface="Arial"/>
            </a:endParaRPr>
          </a:p>
        </p:txBody>
      </p:sp>
      <p:sp>
        <p:nvSpPr>
          <p:cNvPr id="98" name="PlaceHolder 2"/>
          <p:cNvSpPr>
            <a:spLocks noGrp="1"/>
          </p:cNvSpPr>
          <p:nvPr>
            <p:ph/>
          </p:nvPr>
        </p:nvSpPr>
        <p:spPr>
          <a:xfrm>
            <a:off x="-360" y="1412640"/>
            <a:ext cx="8715240" cy="51116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I’s have public responsibility to provide information re programmes</a:t>
            </a:r>
            <a:r>
              <a:rPr b="1" lang="en-GB" sz="3200" spc="-1" strike="noStrike">
                <a:solidFill>
                  <a:srgbClr val="000000"/>
                </a:solidFill>
                <a:latin typeface="Arial"/>
              </a:rPr>
              <a:t>: </a:t>
            </a:r>
            <a:endParaRPr b="1"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ntended learning outcomes of these,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qualifications they award,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eaching, learning and assessment procedures used, and </a:t>
            </a:r>
            <a:endParaRPr b="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learning opportunities available to their students.</a:t>
            </a:r>
            <a:r>
              <a:rPr b="1" lang="en-GB"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ublished information might also include</a:t>
            </a:r>
            <a:r>
              <a:rPr b="1" lang="en-GB" sz="3200" spc="-1" strike="noStrike">
                <a:solidFill>
                  <a:srgbClr val="000000"/>
                </a:solidFill>
                <a:latin typeface="Arial"/>
              </a:rPr>
              <a:t> </a:t>
            </a:r>
            <a:endParaRPr b="1"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ews and employment destinations of past students an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rofile of the current student population.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nformation should be accurate, impartial, objective and readily accessible and should not be used simply as a marketing opportunity. </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stitution should verify that it meets its own expectations in respect of  impartiality and objectivity.</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Arial"/>
              </a:rPr>
              <a:t>Key Question:</a:t>
            </a:r>
            <a:endParaRPr b="1" lang="en-US" sz="3200" spc="-1" strike="noStrike">
              <a:solidFill>
                <a:srgbClr val="3333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How does one apply all these standards to the issue of implementing a learning outcomes approach?</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Have you satisfied yourself and the students on the transparency and clarity of the information and its application to the teaching and learning and assessment processe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Arial"/>
              </a:rPr>
              <a:t>Principles of QA</a:t>
            </a:r>
            <a:endParaRPr b="1" lang="en-US" sz="36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key principles characterise QA: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t for purpose" (the product should be suitable for the intended purpose); and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ht first time" (mistakes should be eliminated). </a:t>
            </a:r>
            <a:endParaRPr b="1"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A includes regulation of the </a:t>
            </a:r>
            <a:r>
              <a:rPr b="1" lang="en-US" sz="2800" spc="-1" strike="noStrike" u="sng">
                <a:solidFill>
                  <a:srgbClr val="009999"/>
                </a:solidFill>
                <a:uFillTx/>
                <a:latin typeface="Arial"/>
                <a:hlinkClick r:id="rId1"/>
              </a:rPr>
              <a:t>quality</a:t>
            </a:r>
            <a:r>
              <a:rPr b="1" lang="en-US" sz="2800" spc="-1" strike="noStrike" u="sng">
                <a:solidFill>
                  <a:srgbClr val="000000"/>
                </a:solidFill>
                <a:uFillTx/>
                <a:latin typeface="Arial"/>
              </a:rPr>
              <a:t> of raw materials, assemblies, products and components; services related to production; and management, production and inspection processes</a:t>
            </a:r>
            <a:r>
              <a:rPr b="0" lang="en-US" sz="2800" spc="-1" strike="noStrike">
                <a:solidFill>
                  <a:srgbClr val="000000"/>
                </a:solidFill>
                <a:latin typeface="Arial"/>
              </a:rPr>
              <a:t>.</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333399"/>
                </a:solidFill>
                <a:latin typeface="Arial"/>
              </a:rPr>
              <a:t>Web Resources</a:t>
            </a:r>
            <a:endParaRPr b="1" lang="en-US" sz="3200" spc="-1" strike="noStrike">
              <a:solidFill>
                <a:srgbClr val="333399"/>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ec.europa.eu/education/programmes/socrates/ects/index_en.htm</a:t>
            </a:r>
            <a:endParaRPr b="1" lang="en-US" sz="2800" spc="-1" strike="noStrike">
              <a:solidFill>
                <a:srgbClr val="000000"/>
              </a:solidFill>
              <a:latin typeface="Arial"/>
            </a:endParaRPr>
          </a:p>
          <a:p>
            <a:pPr marL="343080" indent="-343080">
              <a:lnSpc>
                <a:spcPct val="100000"/>
              </a:lnSpc>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ww.eua.be</a:t>
            </a:r>
            <a:endParaRPr b="1"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hea.ie</a:t>
            </a:r>
            <a:endParaRPr b="1"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bologna.ie</a:t>
            </a:r>
            <a:endParaRPr b="1"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nqai.ie</a:t>
            </a:r>
            <a:endParaRPr b="1"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www.bologna-bergen2005.no/</a:t>
            </a:r>
            <a:endParaRPr b="1"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www.cepes.ro/information_services/sources/on_line/lisbon.htm</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ww.ucc.ie</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ww.ucc.ie/quality</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600" spc="-1" strike="noStrike">
                <a:solidFill>
                  <a:srgbClr val="3333ff"/>
                </a:solidFill>
                <a:latin typeface="Arial"/>
              </a:rPr>
              <a:t>Thank you</a:t>
            </a:r>
            <a:endParaRPr b="1" lang="en-US" sz="36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Arial"/>
              </a:rPr>
              <a:t>Quality and Stakeholders</a:t>
            </a:r>
            <a:endParaRPr b="1" lang="en-US" sz="3200" spc="-1" strike="noStrike">
              <a:solidFill>
                <a:srgbClr val="3333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important to realise also that </a:t>
            </a:r>
            <a:r>
              <a:rPr b="1" i="1" lang="en-US" sz="2800" spc="-1" strike="noStrike">
                <a:solidFill>
                  <a:srgbClr val="000000"/>
                </a:solidFill>
                <a:latin typeface="Arial"/>
              </a:rPr>
              <a:t>quality</a:t>
            </a:r>
            <a:r>
              <a:rPr b="1" lang="en-US" sz="2800" spc="-1" strike="noStrike">
                <a:solidFill>
                  <a:srgbClr val="000000"/>
                </a:solidFill>
                <a:latin typeface="Arial"/>
              </a:rPr>
              <a:t> is determined by the intended users, clients or customers, not by society in general: it is not the same as 'expensive' or 'high quality'.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Arial"/>
              </a:rPr>
              <a:t>Quality Control vs QA</a:t>
            </a:r>
            <a:endParaRPr b="1" lang="en-US" sz="3200" spc="-1" strike="noStrike">
              <a:solidFill>
                <a:srgbClr val="333399"/>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as Quality Control (QC) emphasises testing and blocking the release of defective products, quality assurance is about improving and stabilising production and associated processes to avoid or at least minimise issues that led to the defects in the first place. </a:t>
            </a:r>
            <a:endParaRPr b="1"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ever, QA does not necessarily eliminate the need for QC: some product parameters are so critical that testing is still necessary just in case QA fails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Arial"/>
              </a:rPr>
              <a:t>Bologna Process</a:t>
            </a:r>
            <a:endParaRPr b="1" lang="en-US" sz="3200" spc="-1" strike="noStrike">
              <a:solidFill>
                <a:srgbClr val="333399"/>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European Standards and Guidelines (ES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Standards and Guidelines for Quality Assurance in the European Higher Education Area</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Adopted in Bergen 2005</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476280"/>
            <a:ext cx="6337440" cy="79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1. Policy and Procedures for Quality Assurance</a:t>
            </a:r>
            <a:endParaRPr b="1" lang="en-US" sz="3200" spc="-1" strike="noStrike">
              <a:solidFill>
                <a:srgbClr val="333399"/>
              </a:solidFill>
              <a:latin typeface="Arial"/>
            </a:endParaRPr>
          </a:p>
        </p:txBody>
      </p:sp>
      <p:sp>
        <p:nvSpPr>
          <p:cNvPr id="58" name="PlaceHolder 2"/>
          <p:cNvSpPr>
            <a:spLocks noGrp="1"/>
          </p:cNvSpPr>
          <p:nvPr>
            <p:ph/>
          </p:nvPr>
        </p:nvSpPr>
        <p:spPr>
          <a:xfrm>
            <a:off x="610920" y="1700280"/>
            <a:ext cx="8086680" cy="417672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ndard:</a:t>
            </a:r>
            <a:endParaRPr b="1" lang="en-US" sz="3200" spc="-1" strike="noStrike">
              <a:solidFill>
                <a:srgbClr val="000000"/>
              </a:solidFill>
              <a:latin typeface="Arial"/>
            </a:endParaRPr>
          </a:p>
          <a:p>
            <a:pPr marL="339480" indent="-3394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itutions should have a policy and associated procedures for the assurance of the quality and standards of their programmes and awards. </a:t>
            </a:r>
            <a:endParaRPr b="1" lang="en-US" sz="3200" spc="-1" strike="noStrike">
              <a:solidFill>
                <a:srgbClr val="000000"/>
              </a:solidFill>
              <a:latin typeface="Arial"/>
            </a:endParaRPr>
          </a:p>
          <a:p>
            <a:pPr marL="339480" indent="-3394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y should also commit themselves explicitly to the development of a culture which recognises the importance of quality, and quality assurance, in their work. </a:t>
            </a: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5560"/>
            <a:ext cx="6275520" cy="11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achieve this, institutions should develop and implement a strategy for the continuous enhancement of quality.</a:t>
            </a:r>
            <a:endParaRPr b="1"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rategy, policy and procedures should have a formal status and be publicly available. </a:t>
            </a:r>
            <a:endParaRPr b="1"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y should also include a role for students and other stakeholder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333000"/>
            <a:ext cx="8820000" cy="10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Policy and Procedures for </a:t>
            </a:r>
            <a:br>
              <a:rPr sz="3200"/>
            </a:br>
            <a:r>
              <a:rPr b="1" lang="en-US" sz="3200" spc="-1" strike="noStrike">
                <a:solidFill>
                  <a:srgbClr val="333399"/>
                </a:solidFill>
                <a:latin typeface="Arial"/>
              </a:rPr>
              <a:t>Quality Assurance</a:t>
            </a:r>
            <a:endParaRPr b="1" lang="en-US" sz="3200" spc="-1" strike="noStrike">
              <a:solidFill>
                <a:srgbClr val="333399"/>
              </a:solidFill>
              <a:latin typeface="Arial"/>
            </a:endParaRPr>
          </a:p>
        </p:txBody>
      </p:sp>
      <p:sp>
        <p:nvSpPr>
          <p:cNvPr id="62" name="PlaceHolder 2"/>
          <p:cNvSpPr>
            <a:spLocks noGrp="1"/>
          </p:cNvSpPr>
          <p:nvPr>
            <p:ph/>
          </p:nvPr>
        </p:nvSpPr>
        <p:spPr>
          <a:xfrm>
            <a:off x="214200" y="1714320"/>
            <a:ext cx="8715600" cy="5143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lines</a:t>
            </a:r>
            <a:endParaRPr b="1"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 statement contains the statements of intentions and the principal means by which these will be achieved. -  expected to includ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lationship between teaching and research in the institu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stitution’s strategy for quality and standard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rganisation of the quality assurance system;</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ponsibilities of departments, schools, faculties /units and individual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volvement of student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ays in which the policy is implemented, monitored and revised.</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HEA Bologna Expert Workshop, Dubli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6:56:29Z</dcterms:created>
  <dc:creator>Computer Centre</dc:creator>
  <dc:description/>
  <dc:language>en-US</dc:language>
  <cp:lastModifiedBy>Computer Centre</cp:lastModifiedBy>
  <dcterms:modified xsi:type="dcterms:W3CDTF">2009-02-04T11:40:20Z</dcterms:modified>
  <cp:revision>4</cp:revision>
  <dc:subject/>
  <dc:title>How can/should quality assurance feature in the design of discipline-specific learning outcomes?</dc:title>
</cp:coreProperties>
</file>